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55A-877A-4B23-81D0-33A0E231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496-EAC3-485F-9936-10715294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9E9-C53C-4337-92A6-02ACC8E8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5C4-5C76-4588-9A98-B94BC624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3B43-1030-4557-8152-FDDA8E03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3DBF-283C-4DD0-9FE7-478BD9DC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5614-DABF-4A6A-B5EA-A8DBEA6C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B3D9-130B-4777-9E07-22873053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340F-0025-4244-BECA-5ED516E4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D2C9-7991-4CAD-B528-FD771632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F779-B257-492D-8C9A-C03F6DFC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383-7B1A-439A-839E-096C4CD6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352C-3A41-4D3A-8D5E-471D63C1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A828-699C-4B54-80C0-23FEFF32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129F-8B14-4DD3-8E5B-7B3FF1BE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1941-2E5D-4064-AF1D-1A48C965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7AF7-E3E6-4EC1-9F70-9DDD3737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8676-A9DB-4B9B-A3FC-88B1D53C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AF4-84F4-40CB-B79C-B784A3FD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808-5C2B-43A0-A58C-34ABE58D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C48-8928-4106-991F-6BE59928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432-2C53-43C3-8760-821D2262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7E8-184E-41B5-99C2-2F9983F6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5387-F484-4F4D-813F-02A97D3C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8F75-8404-4540-B742-42C8D1CDA762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EB9B-7983-461D-BCB0-F0DC641A029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OJETO: SIMULAD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DO ANDRADE AQUI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RLENE S. B. DAS VIRG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CYARA HALIK S. VIC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simulado foi realizado nos três períodos: matutino, vespertino e noturn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i aplicado para o Ensino fundamental, Ensino médio e EJ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 prova aplicada para o Ensino Fundamental e para o EJA havia 40 questões de múltipla escolha de todas as matéri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 prova do Ensino Médio havia 65 questões também de múltipla escolh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No Ensino Fundamental 3 alunas empataram com 31 questões acertad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ndressa da Silva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6º ano 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Tereza Aline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6º ano 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laíde da Silva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9º ano 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2708280"/>
            <a:ext cx="800100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m aluno obteve 28 acertos, 5 alunos obtiveram 27 acer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Ensino Médio 1 aluna acertou 49 questões das 65 questõ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íra – 2º ano E.M. 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aluna obteve 47 acerto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aluna obteve 46 acerto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aluna obteve 45 acerto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aluna obteve 43 acerto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alunos(as) obtiveram 42 acer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66280" y="1054080"/>
            <a:ext cx="8037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EJA (3ª e 4ª fases)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aluna com 36 acertos: Maria Barros – 3ª fa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aluno com 30 acertos: José Carlos – 3ª fa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aluna com 28 acertos: Neuza Reis – 3ª f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aluna com 27 acertos: Sueli Barros – 3ª fa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 alunos(as) com 24 acertos e 3 alunos(as) com 23 acer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correções e tabulações foram realizadas no dia 07/07/09 e, aconteceu nos três períodos na Sala de Tecnologias Educacionais e, teve a participação de professores, coordenadoras e professores multiplicadores da s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Verdana"/>
              </a:rPr>
              <a:t>O PROJETO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8000"/>
                </a:solidFill>
                <a:latin typeface="Verdana"/>
              </a:rPr>
              <a:t>PÚBLICO AL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2322000"/>
            <a:ext cx="8001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75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Professores e alunos da Escola Estadual Joaquim Gonçalves Ledo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OBJETIVO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85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imular o estudo e acrescentar conhecimento aos estudantes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850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miliarizar o estudante quanto ao método (simulado), bem como com o preenchimento do gabarito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TODOLO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s professores do Ensino Fundamental de 6º ao 9º ano e do Ensino Médio da Escola Estadual Joaquim Gonçalves Ledo devem elaborar e digitar no Word, cinco questões de múltipla escolha da disciplina em que leciona para cada ano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s professores multiplicadores da STE tiveram como função ensinar os docentes as normas de formatação para suas respectivas questõ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 simulado foi aplicado pelos professores regentes e corrigidos pelos mesmos com o auxílio dos professores multiplicadores da STE nos três períod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66280" y="693360"/>
            <a:ext cx="80010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formação dos docentes aconteceu em etap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primeira etapa foi a formação quanto às normas de formatação do simulado, para que todas as questões tivessem uma mesma formataçã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pois os professores foram orientados quanto à formulação do gabarit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 por último foram orientados quanto a correção e tabulação dos resultados usando como recurso o microsoft exce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 rot="20818800">
            <a:off x="2050920" y="2565000"/>
            <a:ext cx="51418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A DO SIMULAD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 rot="20871600">
            <a:off x="611280" y="2773080"/>
            <a:ext cx="7956360" cy="97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UNOS FAZENDO A PROVA..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81160" y="3108240"/>
            <a:ext cx="713592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ECUÇÃO DO SIMULADO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4:07:27Z</dcterms:created>
  <dc:creator>SEDMS</dc:creator>
  <dc:description/>
  <dc:language>en-US</dc:language>
  <cp:lastModifiedBy>SEDMS</cp:lastModifiedBy>
  <dcterms:modified xsi:type="dcterms:W3CDTF">2009-08-10T14:27:23Z</dcterms:modified>
  <cp:revision>7</cp:revision>
  <dc:subject/>
  <dc:title>PROJETO: SIMULADO</dc:title>
</cp:coreProperties>
</file>